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71D-7E43-488C-AD77-2D6DB393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81A-E10E-482B-9E0F-A29D2A55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194-68CA-4DB8-A606-3337009B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24DA-7B92-4107-B104-CBE490AE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D8C-11AD-4AE1-9D46-34A09324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716-6306-472A-B63A-A5AEA233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D52-0637-47B2-AD81-FECF27F7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F6D-F0C7-48FD-89D2-E9F5F0DF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41C-0826-427C-8668-EF46BE68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34F-5B24-4589-A29C-03E7513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4CF-FE2B-46FA-9FE1-E633B7A3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3BE-A3CC-40B0-9455-814729C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A264-56ED-4501-BC5D-3762CA203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Т СКРИНИНГ ДОКУМЕНТ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атешке одреднице и ви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9528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ександар Вес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моћник мини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арство пољопривреде и заштите животне с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оград, јул 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li grb kolorni rgb"/>
          <p:cNvPicPr/>
          <p:nvPr/>
        </p:nvPicPr>
        <p:blipFill>
          <a:blip r:embed="rId1"/>
          <a:stretch/>
        </p:blipFill>
        <p:spPr>
          <a:xfrm>
            <a:off x="3987720" y="380880"/>
            <a:ext cx="1073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та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оразу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стигнутог између Србије и Европске комисије у складу са закључцима Билатералног скрин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датне информације 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усу својих планова имплемента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процесу приступања Европској ун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21932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арство пољопривреде и заштите животне с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ali grb kolorni rgb"/>
          <p:cNvPicPr/>
          <p:nvPr/>
        </p:nvPicPr>
        <p:blipFill>
          <a:blip r:embed="rId1"/>
          <a:stretch/>
        </p:blipFill>
        <p:spPr>
          <a:xfrm>
            <a:off x="838080" y="5638680"/>
            <a:ext cx="663840" cy="990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21932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арство пољопривреде и заштите животне с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mali grb kolorni rgb"/>
          <p:cNvPicPr/>
          <p:nvPr/>
        </p:nvPicPr>
        <p:blipFill>
          <a:blip r:embed="rId2"/>
          <a:stretch/>
        </p:blipFill>
        <p:spPr>
          <a:xfrm>
            <a:off x="838080" y="5638680"/>
            <a:ext cx="663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З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умент дефиниш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чин на који Срб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овом тренутку, уважавајући све тренутно расположиве информације и досадашња искуства земаља чланица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нира да превазиђе озбиљне финансијске изазове везано за апроксимацију законодавства Европске уније у области животне сре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1932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арство пољопривреде и заштите животне с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mali grb kolorni rgb"/>
          <p:cNvPicPr/>
          <p:nvPr/>
        </p:nvPicPr>
        <p:blipFill>
          <a:blip r:embed="rId1"/>
          <a:stretch/>
        </p:blipFill>
        <p:spPr>
          <a:xfrm>
            <a:off x="838080" y="5638680"/>
            <a:ext cx="663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ционални политички и институционални окв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глед стања по секторима и планови апроксимације (укупно 10 поглављ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на трошкова и финансирање имплементације (најзначајнија инфраструктурна улагања: отпад и отпадне вод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едак у транспози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21932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арство пољопривреде и заштите животне с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mali grb kolorni rgb"/>
          <p:cNvPicPr/>
          <p:nvPr/>
        </p:nvPicPr>
        <p:blipFill>
          <a:blip r:embed="rId1"/>
          <a:stretch/>
        </p:blipFill>
        <p:spPr>
          <a:xfrm>
            <a:off x="838080" y="5638680"/>
            <a:ext cx="663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ЉУЧ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бија је успела да препозна обим и сложеност изазова које представља имплементација директива које захтевају велика финансијска улагања за земље кандидате и нове државе чла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ебан утицај не само на трошкове и финансирање већ и на време и људске капацитете неопходне за имплемент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1932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арство пољопривреде и заштите животне с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mali grb kolorni rgb"/>
          <p:cNvPicPr/>
          <p:nvPr/>
        </p:nvPicPr>
        <p:blipFill>
          <a:blip r:embed="rId1"/>
          <a:stretch/>
        </p:blipFill>
        <p:spPr>
          <a:xfrm>
            <a:off x="838080" y="5638680"/>
            <a:ext cx="663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ЉУЧ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ктор вода ће вероватно захтевати четири финансијска периода (2015-2041); улагање у сектор отпада може бити постигнуто током три финансијска периода (2015-20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нансирање инвестиција: национални или ЕУ фондови, зајмови, приватне инвести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21932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арство пољопривреде и заштите животне с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li grb kolorni rgb"/>
          <p:cNvPicPr/>
          <p:nvPr/>
        </p:nvPicPr>
        <p:blipFill>
          <a:blip r:embed="rId1"/>
          <a:stretch/>
        </p:blipFill>
        <p:spPr>
          <a:xfrm>
            <a:off x="838080" y="5638680"/>
            <a:ext cx="663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ЉУЧ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пходан развој специфичних планова имплементације, укључујући препознавање инфраструктурних потреба и израду листа приоритетних инвестиционих пројек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 финансирања: предвидив, стабилан и довољан ток финанс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21932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арство пољопривреде и заштите животне с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mali grb kolorni rgb"/>
          <p:cNvPicPr/>
          <p:nvPr/>
        </p:nvPicPr>
        <p:blipFill>
          <a:blip r:embed="rId1"/>
          <a:stretch/>
        </p:blipFill>
        <p:spPr>
          <a:xfrm>
            <a:off x="838080" y="5638680"/>
            <a:ext cx="663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ЕДНИ КОРА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авити са развојем Специфичних планова имплемент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 и усвојити неопходне правне акте за оснивање Зеленог фо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ти прикупљање накнада за животну сре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ренути интензивну припрему проје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менити систем накнаде трош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ти употребу механизама јавно-приватног партн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219320" y="6019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арство пољопривреде и заштите животне с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ali grb kolorni rgb"/>
          <p:cNvPicPr/>
          <p:nvPr/>
        </p:nvPicPr>
        <p:blipFill>
          <a:blip r:embed="rId1"/>
          <a:stretch/>
        </p:blipFill>
        <p:spPr>
          <a:xfrm>
            <a:off x="838080" y="5638680"/>
            <a:ext cx="663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3:11:26Z</dcterms:created>
  <dc:creator>planeta</dc:creator>
  <dc:description/>
  <dc:language>en-US</dc:language>
  <cp:lastModifiedBy>Zhorz</cp:lastModifiedBy>
  <dcterms:modified xsi:type="dcterms:W3CDTF">2015-07-17T05:16:2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