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6BA-52A2-4028-AACE-BD0B11EF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106-478F-4B93-BFA7-C2A81F23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C5F-8AEE-4DFA-A950-4BC5F95F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186-49C7-4DEB-AAE7-19FF9228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9EE-4C0B-4CEC-AEBC-32EA2585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B6B-64E8-4C85-8AE0-76801E20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C91-9F3B-446E-A4C9-5D65AA02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B97-F48C-445D-A07C-32422C0D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7D1-C3D2-4901-80C1-FF5AF70D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624-0045-4B62-A02F-22447221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0BC-63A2-4D3F-9EFD-DF5447E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250-C497-4A13-9123-437E93BE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728D-8DE9-4EE8-859D-C8413BE1A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97160" y="2006640"/>
            <a:ext cx="92707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sr-RS" sz="5400" spc="-1" strike="noStrike">
                <a:solidFill>
                  <a:srgbClr val="000000"/>
                </a:solidFill>
                <a:latin typeface="Calibri Light"/>
              </a:rPr>
              <a:t>Пост скрининг документ</a:t>
            </a:r>
            <a:br>
              <a:rPr sz="5400"/>
            </a:br>
            <a:r>
              <a:rPr b="0" lang="sr-RS" sz="5400" spc="-1" strike="noStrike">
                <a:solidFill>
                  <a:srgbClr val="000000"/>
                </a:solidFill>
                <a:latin typeface="Calibri Light"/>
              </a:rPr>
              <a:t>Поглавље 27, Животна средина и климатске промене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2440" y="5423040"/>
            <a:ext cx="90550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еоград, 20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. јули 201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638680" y="160200"/>
            <a:ext cx="91440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147240"/>
            <a:ext cx="105156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sr-RS" sz="3600" spc="-1" strike="noStrike">
                <a:solidFill>
                  <a:srgbClr val="000000"/>
                </a:solidFill>
                <a:latin typeface="Calibri Light"/>
              </a:rPr>
              <a:t>Статус имплементације и планов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9640" y="1685880"/>
            <a:ext cx="1051560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Директиве </a:t>
            </a:r>
            <a:r>
              <a:rPr b="1" i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94/63/E</a:t>
            </a: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З</a:t>
            </a:r>
            <a:r>
              <a:rPr b="1" i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и </a:t>
            </a:r>
            <a:r>
              <a:rPr b="1" i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2009/126/E</a:t>
            </a: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Имплементација директива је у почетној фаз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ланови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Попуњавање базе података о терминалима, покретним резервоарима и бензинским станицама (Агенција за заштиту животне средине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бука инспекције 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(на републичком и локалном нивоу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ипреме Специфичног плана за имплементацију обе директиве 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(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ИПА 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2014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1780920"/>
            <a:ext cx="11430000" cy="34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K</a:t>
            </a:r>
            <a:r>
              <a:rPr b="1" lang="sr-R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валитет ваздуха:</a:t>
            </a:r>
            <a:br>
              <a:rPr sz="2800"/>
            </a:br>
            <a:br>
              <a:rPr sz="2800"/>
            </a:br>
            <a:r>
              <a:rPr b="1" lang="sr-R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	</a:t>
            </a: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     </a:t>
            </a:r>
            <a:r>
              <a:rPr b="1" i="1" lang="sr-RS" sz="2400" spc="-1" strike="noStrike">
                <a:solidFill>
                  <a:srgbClr val="000000"/>
                </a:solidFill>
                <a:latin typeface="Calibri Light"/>
              </a:rPr>
              <a:t>Институционални оквир – успостављен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оцена трошкова </a:t>
            </a:r>
            <a:br>
              <a:rPr sz="2400"/>
            </a:br>
            <a:br>
              <a:rPr sz="2400"/>
            </a:b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ЕАС</a:t>
            </a:r>
            <a:r>
              <a:rPr b="0" lang="sr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: Приказује главне трошкове које намећу прописи у области заштите ваздуха као део процене трошкова припремљених на основу стања инфраструктуре у области заштите животне средине у Србији у периоду 2009/2010. </a:t>
            </a:r>
            <a:r>
              <a:rPr b="0" i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=&gt;</a:t>
            </a:r>
            <a:r>
              <a:rPr b="0" lang="sr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i="1" lang="sr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АПОМЕНА: схватити као грубу процену  </a:t>
            </a:r>
            <a:r>
              <a:rPr b="0" i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=&gt;</a:t>
            </a:r>
            <a:r>
              <a:rPr b="0" lang="sr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Трошкови ће накнадно бити утврђени кроз припрему специфичних планова за имплементацију директива уз подршку ИПА 2014 пројекта</a:t>
            </a:r>
            <a:r>
              <a:rPr b="0" lang="sr-C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0280" y="495360"/>
            <a:ext cx="1051560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 Light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1960" y="4589280"/>
            <a:ext cx="10515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 Light"/>
              </a:rPr>
              <a:t>Љубица Бо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 Light"/>
              </a:rPr>
              <a:t>Одсек за заштиту ваздуха и озонског омот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валитет ваздух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47880" y="20030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Директиве 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2008/50/E</a:t>
            </a: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З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2004/107/E</a:t>
            </a: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З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0" i="1" lang="sr-C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(Оквирна Директива – СА</a:t>
            </a:r>
            <a:r>
              <a:rPr b="0" i="1" lang="en-U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FE </a:t>
            </a:r>
            <a:r>
              <a:rPr b="0" i="1" lang="sr-C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и 4. ћерка Директива)</a:t>
            </a:r>
            <a:r>
              <a:rPr b="1" lang="sr-C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Директива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 2001/81/E</a:t>
            </a: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З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(</a:t>
            </a:r>
            <a:r>
              <a:rPr b="0" i="1" lang="sr-C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Директив</a:t>
            </a:r>
            <a:r>
              <a:rPr b="0" i="1" lang="en-U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a</a:t>
            </a:r>
            <a:r>
              <a:rPr b="0" i="1" lang="sr-C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 о </a:t>
            </a:r>
            <a:r>
              <a:rPr b="0" i="1" lang="sr-R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максималним националним</a:t>
            </a:r>
            <a:r>
              <a:rPr b="0" i="1" lang="sr-C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 емисиј</a:t>
            </a:r>
            <a:r>
              <a:rPr b="0" i="1" lang="sr-R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ама</a:t>
            </a:r>
            <a:r>
              <a:rPr b="0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Директива 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1999/32/E</a:t>
            </a: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З </a:t>
            </a:r>
            <a:r>
              <a:rPr b="0" i="1" lang="en-U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(</a:t>
            </a:r>
            <a:r>
              <a:rPr b="0" i="1" lang="sr-C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Директив</a:t>
            </a:r>
            <a:r>
              <a:rPr b="0" i="1" lang="en-U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a</a:t>
            </a:r>
            <a:r>
              <a:rPr b="0" i="1" lang="sr-C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 о садржају сумпора у течним горивима</a:t>
            </a:r>
            <a:r>
              <a:rPr b="0" i="1" lang="en-U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)</a:t>
            </a:r>
            <a:r>
              <a:rPr b="1" lang="sr-C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Директиве 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94/63/E</a:t>
            </a: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З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2009/126/E</a:t>
            </a: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З </a:t>
            </a:r>
            <a:r>
              <a:rPr b="0" i="1" lang="sr-R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(Директиве фаза I и II сакупљања бензинских пара)</a:t>
            </a:r>
            <a:r>
              <a:rPr b="1" i="1" lang="sr-R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Министарство пољопривреде и заштите животне среди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** </a:t>
            </a:r>
            <a:r>
              <a:rPr b="0" lang="sr-RS" sz="1600" spc="-1" strike="noStrike">
                <a:solidFill>
                  <a:srgbClr val="000000"/>
                </a:solidFill>
                <a:latin typeface="Calibri Light"/>
                <a:ea typeface="Calibri"/>
              </a:rPr>
              <a:t>Министарство рударства и енергет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9720" y="348840"/>
            <a:ext cx="10515600" cy="105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татус транспозиције и планов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639720" y="2076480"/>
            <a:ext cx="1093788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Директиве</a:t>
            </a:r>
            <a:r>
              <a:rPr b="1" i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 2008/50/E</a:t>
            </a: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З</a:t>
            </a:r>
            <a:r>
              <a:rPr b="1" i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i="1" lang="sr-C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 2004/107/E</a:t>
            </a: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З</a:t>
            </a:r>
            <a:r>
              <a:rPr b="0" lang="sr-RS" sz="2000" spc="-1" strike="noStrike">
                <a:solidFill>
                  <a:srgbClr val="000000"/>
                </a:solidFill>
                <a:latin typeface="Calibri Light"/>
                <a:ea typeface="Calibri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коро у потпуности</a:t>
            </a:r>
            <a:r>
              <a:rPr b="1" lang="en-GB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транспоноване  </a:t>
            </a:r>
            <a:r>
              <a:rPr b="0" lang="sr-C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ро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lang="uz-Cyrl-UZ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Закон о заштити ва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lang="uz-Cyrl-UZ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Уредбу о условима за мониторинг и захтевима квалитета ва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авилник о садржају планова квалитета ва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авилник о садржају краткорочних акционих пла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z-Cyrl-UZ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еостале </a:t>
            </a:r>
            <a:r>
              <a:rPr b="0" i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дредб</a:t>
            </a:r>
            <a:r>
              <a:rPr b="0" i="1" lang="sr-C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е</a:t>
            </a:r>
            <a:r>
              <a:rPr b="0" i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i="1" lang="uz-Cyrl-UZ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- до 20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5440" y="1785960"/>
            <a:ext cx="11518920" cy="421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иректива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2001/81/E</a:t>
            </a: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З </a:t>
            </a:r>
            <a:r>
              <a:rPr b="0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-</a:t>
            </a:r>
            <a:r>
              <a:rPr b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делимично транспонована </a:t>
            </a:r>
            <a:r>
              <a:rPr b="0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роз:</a:t>
            </a:r>
            <a:r>
              <a:rPr b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Закон о заштити ваздуха</a:t>
            </a:r>
            <a:br>
              <a:rPr sz="1800"/>
            </a:br>
            <a:r>
              <a:rPr b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Уредбу о граничним вредностима емисије загађујућих материја у ваздух</a:t>
            </a:r>
            <a:br>
              <a:rPr sz="1800"/>
            </a:br>
            <a:br>
              <a:rPr sz="1800"/>
            </a:b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дредбе које се односе на обавезе успостављања максималних националних емисија, инвентара емисија и пројекција, методологију за израду инвентара и пројекција (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EMEP/EEA 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етодологија) нису пренете у национално законодавство.*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*</a:t>
            </a: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иоритет у наредном периоду  биће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обољшање система имплементације прописивањем у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ационално законодавств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: методологије,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ачин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прикупљања података и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начина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извештавањ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а.</a:t>
            </a:r>
            <a:br>
              <a:rPr sz="1800"/>
            </a:br>
            <a:br>
              <a:rPr sz="1800"/>
            </a:br>
            <a:r>
              <a:rPr b="1" lang="sr-Latn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аљ</a:t>
            </a:r>
            <a:r>
              <a:rPr b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и</a:t>
            </a:r>
            <a:r>
              <a:rPr b="1" lang="sr-Latn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план транспозиције </a:t>
            </a:r>
            <a:r>
              <a:rPr b="0" lang="sr-Latn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утвр</a:t>
            </a:r>
            <a:r>
              <a:rPr b="0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иће се </a:t>
            </a:r>
            <a:r>
              <a:rPr b="0" lang="sr-Latn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а основу </a:t>
            </a:r>
            <a:r>
              <a:rPr b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</a:t>
            </a:r>
            <a:r>
              <a:rPr b="1" lang="sr-Latn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авн</a:t>
            </a:r>
            <a:r>
              <a:rPr b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е анализе </a:t>
            </a:r>
            <a:r>
              <a:rPr b="0" lang="sr-Latn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и </a:t>
            </a:r>
            <a:r>
              <a:rPr b="0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израде </a:t>
            </a:r>
            <a:r>
              <a:rPr b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лана транспозиције </a:t>
            </a:r>
            <a:r>
              <a:rPr b="0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за преостале одредбе директиве </a:t>
            </a:r>
            <a:r>
              <a:rPr b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уз подршку </a:t>
            </a:r>
            <a:r>
              <a:rPr b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ИПА 2014 пројекта *.</a:t>
            </a:r>
            <a:br>
              <a:rPr sz="1800"/>
            </a:br>
            <a:br>
              <a:rPr sz="1800"/>
            </a:br>
            <a:r>
              <a:rPr b="1" i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*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аставак имплементације Стратегије за апроксимацију у области животне средине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731880" y="476280"/>
            <a:ext cx="105156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татус транспозиције и план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1520" y="3095640"/>
            <a:ext cx="10829880" cy="421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иректива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1</a:t>
            </a: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999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/</a:t>
            </a: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32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/E</a:t>
            </a: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З </a:t>
            </a:r>
            <a:r>
              <a:rPr b="0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-</a:t>
            </a:r>
            <a:r>
              <a:rPr b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делимично транспонована </a:t>
            </a:r>
            <a:r>
              <a:rPr b="0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кроз:</a:t>
            </a:r>
            <a:r>
              <a:rPr b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 Light"/>
              </a:rPr>
              <a:t>Закон о техничким захтевима за производе и оцењивањ</a:t>
            </a:r>
            <a:r>
              <a:rPr b="1" lang="sr-RS" sz="1800" spc="-1" strike="noStrike">
                <a:solidFill>
                  <a:srgbClr val="000000"/>
                </a:solidFill>
                <a:latin typeface="Calibri Light"/>
              </a:rPr>
              <a:t>е</a:t>
            </a:r>
            <a:r>
              <a:rPr b="1" lang="sr-CS" sz="1800" spc="-1" strike="noStrike">
                <a:solidFill>
                  <a:srgbClr val="000000"/>
                </a:solidFill>
                <a:latin typeface="Calibri Light"/>
              </a:rPr>
              <a:t> усаглашености</a:t>
            </a:r>
            <a:br>
              <a:rPr sz="1800"/>
            </a:br>
            <a:r>
              <a:rPr b="1" i="1" lang="sr-CS" sz="1800" spc="-1" strike="noStrike">
                <a:solidFill>
                  <a:srgbClr val="000000"/>
                </a:solidFill>
                <a:latin typeface="Calibri Light"/>
              </a:rPr>
              <a:t>Правилник о техничким и другим захтевима за </a:t>
            </a:r>
            <a:r>
              <a:rPr b="1" i="1" lang="sr-RS" sz="1800" spc="-1" strike="noStrike">
                <a:solidFill>
                  <a:srgbClr val="000000"/>
                </a:solidFill>
                <a:latin typeface="Calibri Light"/>
              </a:rPr>
              <a:t>течна горива нафтног порекла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 Light"/>
              </a:rPr>
              <a:t>Закон о енергетици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 Light"/>
              </a:rPr>
              <a:t>Закон о заштити потрошача</a:t>
            </a:r>
            <a:br>
              <a:rPr sz="1800"/>
            </a:br>
            <a:r>
              <a:rPr b="1" lang="sr-RS" sz="1800" spc="-1" strike="noStrike">
                <a:solidFill>
                  <a:srgbClr val="000000"/>
                </a:solidFill>
                <a:latin typeface="Calibri Light"/>
              </a:rPr>
              <a:t>Закон о потврђивању Протокола из 1997. године о изменама и допунама Међународне конвенције о спречавању загађења са бродова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 Light"/>
              </a:rPr>
              <a:t>Закон о </a:t>
            </a:r>
            <a:r>
              <a:rPr b="1" lang="sr-RS" sz="1800" spc="-1" strike="noStrike">
                <a:solidFill>
                  <a:srgbClr val="000000"/>
                </a:solidFill>
                <a:latin typeface="Calibri Light"/>
              </a:rPr>
              <a:t>поморству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 Light"/>
              </a:rPr>
              <a:t>Закон о стандардизацији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 Light"/>
              </a:rPr>
              <a:t>Закон о акредитацији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иоритет у наредном периоду:</a:t>
            </a:r>
            <a:br>
              <a:rPr sz="1800"/>
            </a:br>
            <a:br>
              <a:rPr sz="1800"/>
            </a:b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-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анализа актуелне ситуације и припрема предлога за измене 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</a:rPr>
              <a:t>релевантних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 прописа;</a:t>
            </a:r>
            <a:br>
              <a:rPr sz="1800"/>
            </a:br>
            <a:r>
              <a:rPr b="0" i="1" lang="sr-RS" sz="1800" spc="-1" strike="noStrike">
                <a:solidFill>
                  <a:srgbClr val="000000"/>
                </a:solidFill>
                <a:latin typeface="Calibri Light"/>
              </a:rPr>
              <a:t> -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јачање постојећих административних и институционалних капацитета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731880" y="476280"/>
            <a:ext cx="105156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татус транспозиције и план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680" y="144360"/>
            <a:ext cx="10515600" cy="105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татус транспозиције и планов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8760" y="1622520"/>
            <a:ext cx="110682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Директиве 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94/63/E</a:t>
            </a: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З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2009/126/E</a:t>
            </a: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З </a:t>
            </a:r>
            <a:r>
              <a:rPr b="0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– </a:t>
            </a:r>
            <a:r>
              <a:rPr b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транспоноване у национално законодавство </a:t>
            </a:r>
            <a:r>
              <a:rPr b="0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кроз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Закон о заштити ваздух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авилник о техничким мерама и захтевима који се односе на дозвољене емисионе факторе за испарљива органска једињења која потичу из процеса складиштења и транспорта бенз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остигнут висок степен транспозиције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еостале одредбе - до датума приступања (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обавезе држава чланица према Комисији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268200" y="963720"/>
            <a:ext cx="1174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Директиве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2008/50/E</a:t>
            </a: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З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и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2004/107/E</a:t>
            </a: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Зоне и агломерације – утврђе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Систем мониторинга квалитета ваздуха – успостављ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Годишњи извештај о стању квалитета ваздуха у Републици Србији припрема и објављује Агенциј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План квалитета ваздуха за агломерацију Бор 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– усвојен у 2013. годи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Планови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Израда и усвајање преосталих планова 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квалитета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ваздух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Израда Стратегије заштите ваздуха 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(</a:t>
            </a: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ИПА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2014)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Развој Плана имплементације за Директиву 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2008/50/Е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З (</a:t>
            </a: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ИПА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2014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Поновно одређивање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(ревидирање) </a:t>
            </a: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зона и агломерациј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Поновна процена система мониторинга квалитета ваздух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Унапређење примене техника моделовања за оцену и управљање квалитетом ва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8960" y="306000"/>
            <a:ext cx="105156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sr-RS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татус имплементације и планов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-360"/>
            <a:ext cx="105156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sr-RS" sz="36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Статус имплементације и планов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Text Placeholder 2"/>
          <p:cNvSpPr/>
          <p:nvPr/>
        </p:nvSpPr>
        <p:spPr>
          <a:xfrm>
            <a:off x="507960" y="1593720"/>
            <a:ext cx="10528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96720" y="1093680"/>
            <a:ext cx="1168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иректива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2001/81/E</a:t>
            </a:r>
            <a:r>
              <a:rPr b="1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Тренутно не постоје утврђене максималне националне емисије за релевантне загађујуће матер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 </a:t>
            </a:r>
            <a:r>
              <a:rPr b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бавезе према </a:t>
            </a:r>
            <a:r>
              <a:rPr b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CLRT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→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обавезе извештавања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→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имењује се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нова 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EMEP/EEA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етодоло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ланови</a:t>
            </a:r>
            <a:r>
              <a:rPr b="1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аље унапређење инвентара емисија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→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рописати у национално законодавсто 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EMEP/EEA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методолог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→ 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азвој националних емисионих фактора за прорачуне еми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→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усклађивање (хармонизација) извештавања према конвенцијама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: </a:t>
            </a:r>
            <a:r>
              <a:rPr b="0" i="1" lang="en-GB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CLRTAP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и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 Light"/>
                <a:ea typeface="Arial"/>
              </a:rPr>
              <a:t>UNF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Израда Плана имплементације за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Arial"/>
              </a:rPr>
              <a:t>Директиву </a:t>
            </a: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(</a:t>
            </a: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ИПА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Calibri"/>
              </a:rPr>
              <a:t> 2014</a:t>
            </a: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Израда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Стратегије заштите ваздуха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(</a:t>
            </a: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Arial"/>
              </a:rPr>
              <a:t>ИПА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Arial"/>
              </a:rPr>
              <a:t> 2014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Развој пројекција емисија, </a:t>
            </a:r>
            <a:r>
              <a:rPr b="0" i="1" lang="uz-Cyrl-UZ" sz="18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успостављање максималних националних емисија за Србију и ратификација Гетеборшког прото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147240"/>
            <a:ext cx="105156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sr-RS" sz="3600" spc="-1" strike="noStrike">
                <a:solidFill>
                  <a:srgbClr val="000000"/>
                </a:solidFill>
                <a:latin typeface="Calibri Light"/>
              </a:rPr>
              <a:t>Статус имплементације и планов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85880"/>
            <a:ext cx="1127268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Директива</a:t>
            </a:r>
            <a:r>
              <a:rPr b="1" i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1</a:t>
            </a: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999</a:t>
            </a:r>
            <a:r>
              <a:rPr b="1" i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/</a:t>
            </a: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32</a:t>
            </a:r>
            <a:r>
              <a:rPr b="1" i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/E</a:t>
            </a:r>
            <a:r>
              <a:rPr b="1" i="1" lang="sr-R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Закон о енергетици - основ за успостављање система мониторинга гори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Нацрт Стратегије 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</a:rPr>
              <a:t>развоја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 енергети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</a:rPr>
              <a:t>ке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 Републике Србије (квалитет белих деривата усаглашен са највишим ЕУ стандардима; потребно подићи ниво квалитета „црних“ дериват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 </a:t>
            </a:r>
            <a:r>
              <a:rPr b="1" i="1" lang="sr-C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Планови</a:t>
            </a:r>
            <a:r>
              <a:rPr b="1" i="1" lang="en-US" sz="2000" spc="-1" strike="noStrike">
                <a:solidFill>
                  <a:srgbClr val="000000"/>
                </a:solidFill>
                <a:latin typeface="Calibri Light"/>
                <a:ea typeface="Times New Roman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Calibri Light"/>
              </a:rPr>
              <a:t>У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саглашавање прописа 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</a:rPr>
              <a:t>из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 области енергетике, 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</a:rPr>
              <a:t>заштите 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животне средине и водног саобраћај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Израда и ревизија подзаконск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</a:rPr>
              <a:t>их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 акат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</a:rPr>
              <a:t>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Нови циклус инвести</a:t>
            </a:r>
            <a:r>
              <a:rPr b="0" i="1" lang="sr-RS" sz="1800" spc="-1" strike="noStrike">
                <a:solidFill>
                  <a:srgbClr val="000000"/>
                </a:solidFill>
                <a:latin typeface="Calibri Light"/>
              </a:rPr>
              <a:t>рања</a:t>
            </a: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 у рафинеријске капацитет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Calibri Light"/>
              </a:rPr>
              <a:t>Израда Плана имплементације (ИПА 201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08:55:25Z</dcterms:created>
  <dc:creator>Vesna Kahrimanovic</dc:creator>
  <dc:description/>
  <dc:language>en-US</dc:language>
  <cp:lastModifiedBy>Sandra Sperlic</cp:lastModifiedBy>
  <dcterms:modified xsi:type="dcterms:W3CDTF">2015-07-16T08:26:08Z</dcterms:modified>
  <cp:revision>306</cp:revision>
  <dc:subject/>
  <dc:title>EU-SERBIA SUB-COMMITTEE TRANSPORT, ENERGY, ENVIRONMENT, CLIMATE CHANGE AND REGIONAL DEVELOPMENT Belgrade, 2 -3  July 2015  6. ENVIRONMENT</dc:title>
</cp:coreProperties>
</file>